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7FE-5B83-4058-8E43-DF9C0A26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38C-E13F-47AB-8595-859F79F0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390-14BF-46FD-9D5F-C5F37315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9EE-0397-4EC9-A1B7-466BA5EB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EC09-225E-43CB-B099-9470F4F9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106C-067B-4C27-A631-989837B5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ED1A-F82E-4347-BD17-0B4AF67D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8315-F92C-49FA-ACA9-8C771E6C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0918-5AFA-4C11-A391-A0230C34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9FAF-4E04-4ACE-BF5A-DC2623B7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A55A-94ED-4309-9ED1-D271FB5C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1AA-1492-4A3D-8657-D0851117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1256-9369-4D8F-977F-B448A2E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E1C1-B5C2-4E72-B9F3-1A7B0ACF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090B-7A65-4AEC-8A2E-889493C1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6CB6-B27A-475C-8016-C6460608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D5C4-94C3-48D3-9844-6D1C84E7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DE1-1567-4168-BC1E-AF80AD9E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F83-3CEC-4E5F-AE43-80A70CA5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3A9-A8D6-4646-83C2-C0F9E211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CEE-0FAB-4CC1-88B7-4D0896CE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EF7-01E8-4E0A-B7A2-892CC499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905-B450-4054-A887-E0AE5F9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D3D-F961-4234-A1D8-8983C03F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FD13-9232-4C2E-BE12-313A1BBC50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F1EB-800C-4ACA-81B2-759CCCF83F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Jokerman"/>
              </a:rPr>
              <a:t>Food Hygien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 Heidi and Joshua G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2602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od Hygien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hygiene is very important because if you don’t be careful your germs can spread very qu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33360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33336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336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shing your ha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touch your pet before going to school and when you get to school you hold your friends hand you will spread the germs because you didn’t wash your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go to the toilet and washed your hands and also dried them you wouldn’t spread germ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2602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02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rms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areful of germs by washing your hands and without touching any thing that lots of other people have been touch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has at least 100 germs (YUCK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68360" y="54936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00000" y="333360"/>
            <a:ext cx="2828880" cy="333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067280" y="333360"/>
            <a:ext cx="2857320" cy="257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971640" y="3716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924360" y="3068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7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2:12:19Z</dcterms:created>
  <dc:creator>Administrator</dc:creator>
  <dc:description/>
  <dc:language>en-US</dc:language>
  <cp:lastModifiedBy>Administrator</cp:lastModifiedBy>
  <dcterms:modified xsi:type="dcterms:W3CDTF">2009-08-05T02:38:45Z</dcterms:modified>
  <cp:revision>10</cp:revision>
  <dc:subject/>
  <dc:title>Food Hygiene</dc:title>
</cp:coreProperties>
</file>