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B8C-0AEF-4A9A-B8B5-391FDC2F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E12-9D20-42FE-A5C6-ACD23FBE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4F4-0577-477A-862D-476F1358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147-AE03-42BB-AF48-B3770F15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BE80-E317-4281-8E4B-D8841ABE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ABDC-A1B6-4416-A0CE-90C8401C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4DC0-43F9-485D-BE2A-38258F2D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159E-A808-4716-839C-03B37BFB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5547-2515-467C-89C8-6356531C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7291-13FC-4C73-8A0F-CA2072FF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AC10-EF8D-4D5D-B897-428D5B64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641-DF66-495F-8A43-E100FEEA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12CA-866F-4A63-BB43-506CB635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7A86-5DDD-4A60-BB0B-35337D93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F892-113B-4550-BE6A-64250B44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A8B7-8F1F-40CD-9FAF-ACA53C04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5A4A-D6FB-4547-AC8C-AA391E33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DBD-4643-49C0-90AB-191F7475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EEE-5D7F-4C31-8050-C250A2C4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7D6-51BA-4E13-B4C9-6F623951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105-897E-49B6-A670-C2175CC3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4C6-E91C-4349-ACC6-C98786C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A28-BC1F-4AEB-A7FE-1451D5A8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52F-AC60-4F99-8474-D7D167D0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7053-A317-4584-BA97-A4F12C1013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29DF-ED3C-4E59-9A0B-B901D216C5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Jokerman"/>
              </a:rPr>
              <a:t>Food Hygien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 Heidi and Joshua G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2602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od Hygien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hygiene is very important because if you don’t be careful your germs can spread very qu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33360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33336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336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shing your ha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touch your pet before going to school and when you get to school you hold your friends hand you will spread the germs because you didn’t wash your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go to the toilet and washed your hands and also dried them you wouldn’t spread germ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2602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02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rms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areful of germs by washing your hands and without touching any thing that lots of other people have been touch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has at least 100 germs (YUCK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68360" y="54936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00000" y="333360"/>
            <a:ext cx="2828880" cy="333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067280" y="333360"/>
            <a:ext cx="2857320" cy="257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971640" y="3716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924360" y="3068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7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2:12:19Z</dcterms:created>
  <dc:creator>Administrator</dc:creator>
  <dc:description/>
  <dc:language>en-US</dc:language>
  <cp:lastModifiedBy>Administrator</cp:lastModifiedBy>
  <dcterms:modified xsi:type="dcterms:W3CDTF">2009-08-05T02:38:45Z</dcterms:modified>
  <cp:revision>10</cp:revision>
  <dc:subject/>
  <dc:title>Food Hygiene</dc:title>
</cp:coreProperties>
</file>