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55B-34FD-458F-82A3-B8369AAF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695-E604-4564-8EBC-AA613FC5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6A9-E96A-447B-A952-51905E1C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400-4850-4285-8337-70E1DC4E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54E2-CDFF-4158-B136-A86AAB7E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3CC3-829C-49CF-B11F-32F6F51A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F9AF-1EB0-4F18-84EF-8CD57B2C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09F2-67BF-47B7-B49C-262BBE6B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79FE-5851-4410-93BE-5A466EE1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535D-4292-4746-99E6-E7128CA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3304-BA6E-4497-9E7E-904C0B5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ED3-5051-4904-82EB-A9CADCA0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A680-A90E-4C51-A831-3FDA251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5B25-0CF5-4FDA-B8FB-F0C20DBF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0542-24C6-4E74-A722-A778307B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26D1-4446-43AF-9D49-8F4491AE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F6D1-0183-4527-A185-688D6241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13A-40E1-4803-9E2B-91E1CC7B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3D7-8449-4769-B2E3-C0849BD2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8D6-C169-4248-A196-C77F6857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2C6-47B5-47F9-AAF7-AC0DFC47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62D-D49C-4137-AEB4-260100B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163-43C5-42B8-8B77-259DF10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167-5496-4AC3-9490-08475113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0822-6284-4CEE-87D0-5414D341AB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ECD3-77C4-4239-A2EF-AF6284A315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Jokerman"/>
              </a:rPr>
              <a:t>Food Hygien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Heidi and Joshua G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2602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od Hygien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hygiene is very important because if you don’t be careful your germs can spread very qu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33360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33336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336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shing your ha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ouch your pet before going to school and when you get to school you hold your friends hand you will spread the germs because you didn’t wash your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go to the toilet and washed your hands and also dried them you wouldn’t spread germ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2602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02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rms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areful of germs by washing your hands and without touching any thing that lots of other people have been touch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has at least 100 germs (YUCK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68360" y="54936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2828880" cy="33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067280" y="333360"/>
            <a:ext cx="2857320" cy="257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971640" y="3716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924360" y="3068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7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2:12:19Z</dcterms:created>
  <dc:creator>Administrator</dc:creator>
  <dc:description/>
  <dc:language>en-US</dc:language>
  <cp:lastModifiedBy>Administrator</cp:lastModifiedBy>
  <dcterms:modified xsi:type="dcterms:W3CDTF">2009-08-05T02:38:45Z</dcterms:modified>
  <cp:revision>10</cp:revision>
  <dc:subject/>
  <dc:title>Food Hygiene</dc:title>
</cp:coreProperties>
</file>